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1643-6E2C-4D1C-A5BE-2C6BBBE9A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377F-D4E0-48C4-8EF8-44018135E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D64-550B-45D4-B2C0-AB4AE255A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293-2BE4-4F34-9537-B258C185F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8085-557B-4ED8-BD56-178419B4D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208D-F330-40E7-A822-26C299013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CEF8-8EBD-46BC-80DE-EBB2C78E1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8959-C9CE-4A91-B5D2-510D4BFF9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25F-7AB8-463D-AD3B-1D99347EE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762-8750-49FB-9559-F4E53D940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E41-6643-4C71-A017-F36DCEE46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005-482F-4D67-BD9F-E18949F99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256-5F9A-4B1B-9E05-27BEE904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1AB-6E22-4C2C-B56A-8662030B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D4D-6C9E-4C9B-9D81-E2FF11A9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52F-8063-434D-81A8-4C14BB9A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5C4-FEF6-4B36-9E6E-D39CADFD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E83-13A0-404B-AD35-5311D539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9BA-4D6B-4A26-82EE-17E0D989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9AE-D567-44E5-BF28-287846B1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EE6-A5E1-4BE2-B32D-3500C3F3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9FE-CA0A-477C-91C6-A284098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33A-F784-43C3-96E9-3315531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9F4-5E65-424B-8C2D-BFCB0A6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619F-89D6-4DD2-8E8D-7ACD25450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 minutes can you come up with an advertising idea to promote this bottle of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any found this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at compare to the starter drawing t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ound that easi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7" descr="This the finale design of my dance music magazine"/>
          <p:cNvPicPr/>
          <p:nvPr/>
        </p:nvPicPr>
        <p:blipFill>
          <a:blip r:embed="rId1"/>
          <a:stretch/>
        </p:blipFill>
        <p:spPr>
          <a:xfrm>
            <a:off x="642960" y="642960"/>
            <a:ext cx="3714840" cy="558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Untitled-13.jpg"/>
          <p:cNvPicPr/>
          <p:nvPr/>
        </p:nvPicPr>
        <p:blipFill>
          <a:blip r:embed="rId2"/>
          <a:stretch/>
        </p:blipFill>
        <p:spPr>
          <a:xfrm>
            <a:off x="4714920" y="642960"/>
            <a:ext cx="39258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back at your 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look at your AS work and compare it your A2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reative skills have developed.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/id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use of phot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design skills -fonts, colour schem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use of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did the creativity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conclu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234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notes you’ve made along with the notes in your bookle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creative skills you have used at AS and A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Compare how your creative skills have developed from AS to 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 Ass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artner’s para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ive skills you have referred to in your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what ‘creativity’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our own 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s it cre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re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efin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is a balance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innovation and technical pro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an ideas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yourse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181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are you creative? Or are you more technically profici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your creative skills from 1 to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me? Am I, as a teacher cre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846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or techn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John Myatt he is an art reproduction artist. He reproduces famous works of art as exact cop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e cre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yatt creative or is 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 pro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What do we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559480" y="627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www.yourbrushwiththelaw.com/_pictures/John.jpg"/>
          <p:cNvPicPr/>
          <p:nvPr/>
        </p:nvPicPr>
        <p:blipFill>
          <a:blip r:embed="rId1"/>
          <a:stretch/>
        </p:blipFill>
        <p:spPr>
          <a:xfrm>
            <a:off x="6286680" y="1285920"/>
            <a:ext cx="2592360" cy="31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i.thisislondon.co.uk/i/pix/2007/07/017_19_Monet_243x187.jpg"/>
          <p:cNvPicPr/>
          <p:nvPr/>
        </p:nvPicPr>
        <p:blipFill>
          <a:blip r:embed="rId2"/>
          <a:stretch/>
        </p:blipFill>
        <p:spPr>
          <a:xfrm>
            <a:off x="4214880" y="4286160"/>
            <a:ext cx="2000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es your creativity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your creativity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inherited or developed from outside family influence. Nature versus nur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bringing in creative skills from other subjects? This i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oss-curricula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skills develop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is AS work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entral concept to both pie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y creative or technically proficient or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reative decisions would have to have been m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reative skills have developed.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graphy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ut design skills -fonts, colour sch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T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This the finale design of my dance music magazine"/>
          <p:cNvPicPr/>
          <p:nvPr/>
        </p:nvPicPr>
        <p:blipFill>
          <a:blip r:embed="rId1"/>
          <a:stretch/>
        </p:blipFill>
        <p:spPr>
          <a:xfrm>
            <a:off x="642960" y="642960"/>
            <a:ext cx="3714840" cy="558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Untitled-13.jpg"/>
          <p:cNvPicPr/>
          <p:nvPr/>
        </p:nvPicPr>
        <p:blipFill>
          <a:blip r:embed="rId2"/>
          <a:stretch/>
        </p:blipFill>
        <p:spPr>
          <a:xfrm>
            <a:off x="4714920" y="642960"/>
            <a:ext cx="39258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v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evalauatve terms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, Outstanding…po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ainstorm som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look again at the old student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0:37:48Z</dcterms:created>
  <dc:creator>Permaul</dc:creator>
  <dc:description/>
  <dc:language>en-US</dc:language>
  <cp:lastModifiedBy>Permaul, Pravin</cp:lastModifiedBy>
  <cp:lastPrinted>2012-01-31T08:16:28Z</cp:lastPrinted>
  <dcterms:modified xsi:type="dcterms:W3CDTF">2013-02-15T14:58:26Z</dcterms:modified>
  <cp:revision>24</cp:revision>
  <dc:subject/>
  <dc:title>Evaluating creativity</dc:title>
</cp:coreProperties>
</file>